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E673-F311-41E9-A004-F1C0021D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1CD4-2FB9-4E63-8424-544BD9E2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1593-AE42-4006-AFDE-FA169930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AD20-5920-4030-A8CD-D88E4D1C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8115-458D-4ACF-9E86-76F6372A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9F79-E4D0-47ED-AA9A-E1D2AC6D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471C-2A9D-4E6F-92DF-1E4DE653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884D-3F41-47D8-8D66-AEF40767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1FD3-E554-4D73-BA41-F5DCD061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7BB1-E6A6-42AD-8A19-7B3C044F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6B6E-5C68-446A-87F5-9EC635FD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3FF6-1593-460D-9E80-33C6DF4F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5687-7CF7-4FF9-BA99-A71C8BEB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B08E-FAD3-45E0-BEC9-AC84B1F7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95F5-E7CE-4302-AEA0-48D13E52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A4AD-0A6F-40BF-8CC5-6129759A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8567-22A6-4D77-B2EC-E3310603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633A-3634-4DB1-9752-49364B06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231B-60AF-4266-BD5A-D1570180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D8E1-0E37-4CDF-AD04-85E7D127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FB8-42DB-4EB5-B1AD-140E6DA9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154B-6993-4DE6-9C98-2550A9E7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3A43-2FF4-4FFA-BC86-A562F9E9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ADC7-99EC-4E6D-8B71-359FFCE0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9F15-FBF7-460D-883D-F7835F71454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315200" y="152280"/>
            <a:ext cx="1676520" cy="82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32B5-3D30-4EA4-AA0A-B65539F87F69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5400" spc="-1" strike="noStrike">
                <a:solidFill>
                  <a:srgbClr val="333399"/>
                </a:solidFill>
                <a:latin typeface="Tahoma"/>
              </a:rPr>
              <a:t>تويوتا </a:t>
            </a:r>
            <a:r>
              <a:rPr b="1" lang="ar-AE" sz="5400" spc="-1" strike="noStrike">
                <a:solidFill>
                  <a:srgbClr val="333399"/>
                </a:solidFill>
                <a:latin typeface="Tahoma"/>
              </a:rPr>
              <a:t>1200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15000" y="5450040"/>
            <a:ext cx="243828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التصمي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الهيكل الخارج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 يمتاز بالانسيابية والتصميم           الجيد ولها أربعة مصابيح أمامية تعمل                    بتقنية الليزر وتتوفر بعدة ألوان وعدة أحجام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الهيكل الداخلي مريح وفاخر ويمكن للزبون أن يختار المواصفات المناسبة لاحتياجاته من ناحية لون المقاعد والمادة المستخدمة لصناعتها سواء كانت من الجلد الطبيعي أو من القماش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الأداء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حجم المحرك: يتراوح بين  إلى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2.2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 حتى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3.0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 ليت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السرعة القصوى: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127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 ميل بالثان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التسارع : تتسارع من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 ميل بالساعة خلال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10.6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 ثان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8862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ffcf0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يتكون صندوق الغيار الأوتوماتيكي من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سرع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التقن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ضبط الحرارة الداخلي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جهاز تحكم عن بع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مقاعد مزودة بجهاز تبري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نظام الملاحة الموجه بالأقمار الصناعي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أضواء ليزري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ماسحات زجاج تعمل تلقائيا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الأمن والأما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الأنوا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2.0</a:t>
            </a: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  ( مصممة على هيكل يشبه هيكل سيارات السباق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3.0</a:t>
            </a: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  ( مصممة على هيكل يشبه هيكل سيارات السباق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2.2</a:t>
            </a: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  ديز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2.2</a:t>
            </a: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  ديزل مزود بجهاز سرع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السؤال </a:t>
            </a: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الإجاب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المبيعا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08:57:17Z</dcterms:created>
  <dc:creator>12:54</dc:creator>
  <dc:description/>
  <dc:language>en-US</dc:language>
  <cp:lastModifiedBy>ويره</cp:lastModifiedBy>
  <dcterms:modified xsi:type="dcterms:W3CDTF">2007-03-09T00:57:47Z</dcterms:modified>
  <cp:revision>17</cp:revision>
  <dc:subject/>
  <dc:title>TFE 1200</dc:title>
</cp:coreProperties>
</file>